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AC5A-0E0A-4FBD-BC98-29AB95474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AA8C-2E06-47E2-9DFB-5A8746FC8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C8B9-90C8-4B7F-B960-3A88A4C9C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B1C5-8DDC-47E9-A0F7-CF131899F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09C4-F040-4B13-A603-D9F617516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5928-765F-4E6F-8206-21D5908FE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3F8C-6EFA-48BF-8221-CDD12E6FA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6D51-2AF3-49BD-A345-E1A0D2412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8D33-1A0B-446E-9077-18934E856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7391-8632-4E77-B17D-6C98F493F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D4F0E-A470-432E-9085-FBDE72616F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C8FEB-ABFE-4455-8D03-62BEF1067F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42606-E84E-4E5D-B028-7BDE3E77DB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47642-D978-4025-83D9-8862239966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2D313-E8DA-474B-890F-FE719EBE65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5E40A-2FF5-4A7C-9187-60673698DC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68F1D-77F0-4659-9F53-78E895BF42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AAA87-9093-4916-AF23-047F85306F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0BB1B-47CC-44DF-85CE-18457E5DD5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D5F19-155C-4F2F-B0B9-C632E2807A4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DA2C9-ADA7-4A4C-BA20-B47E18E837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897E6-B118-4A2B-BA39-91A915A458B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D56608-A286-4003-ABF6-4455F5BBE2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6301D5-4CE6-4509-897A-8955948BCA6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2ABA4C-65CD-470D-99D9-3B4C860E9B0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A90BC5-EED4-4EEE-8219-FACD1BD5C2D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E91CC-14AA-4DFE-A1A4-4BFCC9F14C8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255C2-EFAB-49E9-9051-4CC4E37C2DF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0943D9-4641-4B23-A1A4-AFA5D9C0D6D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9F4C02-1033-4B9A-A43F-A9694BD5D5D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CD385D-EAE9-4A24-AD39-D41A982ABF8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E60E79-7BB5-4CD2-BDBE-5B169FA5D3E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9E92E-395C-4BB7-997E-588BB55017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5FE914-6D61-46F8-993B-17948340E34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9D7D8E-095D-4825-AF0E-2C4E8F8C59C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1D5BD-DFCE-411A-87D3-9C79C4B434B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20F0D-AF68-4087-9DB4-4FDB9F8655D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F67A2F-B75B-4CC2-A4C8-DA136F97080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16E37F-847A-4CF3-A21A-DE183F99944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A1C232-6506-4B64-A0FD-8525B79DCBE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D2F627-EE7F-445A-9945-469BD03E8EC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7DC76D-6CA1-4A48-8FB5-812984B9ABC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ECEB3F-67F5-4465-A446-4EF50BCB9A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1E557-8ADB-4061-8570-60DFACAF8DF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5B0A0-E1A2-46F4-86B9-67317FFBB97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AEBDF-A18C-4BBB-89F7-F6F4DE732B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142640" y="6244920"/>
            <a:ext cx="7543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2AC9A313-1D69-4580-8FD2-886489F62E27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7440" y="274320"/>
            <a:ext cx="75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60640" y="1600200"/>
            <a:ext cx="7526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0EA251D8-46E9-4ECA-B444-23769CE3A470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3"/>
          </p:nvPr>
        </p:nvSpPr>
        <p:spPr>
          <a:xfrm>
            <a:off x="1142640" y="6244920"/>
            <a:ext cx="7543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552D9ED5-F63A-48B7-8582-F42A72C19EC0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new layout art3.png"/>
          <p:cNvPicPr/>
          <p:nvPr/>
        </p:nvPicPr>
        <p:blipFill>
          <a:blip r:embed="rId3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7440" y="274320"/>
            <a:ext cx="75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160640" y="1600200"/>
            <a:ext cx="7526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6ABA98D0-32A5-420D-AB12-214C623D2DB5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17440" y="274320"/>
            <a:ext cx="75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160640" y="1600200"/>
            <a:ext cx="7526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5"/>
          </p:nvPr>
        </p:nvSpPr>
        <p:spPr>
          <a:xfrm>
            <a:off x="65390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CA876446-D365-47B8-8932-16621DE91ED1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89000" y="6008400"/>
            <a:ext cx="876600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1: Digital Communication Tools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– Lesson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5032440" y="6566040"/>
            <a:ext cx="4111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, 2006 South-Western, Cengage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Login and Operating</a:t>
            </a:r>
            <a:br>
              <a:rPr sz="4000"/>
            </a:b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Systems Basic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22360" y="1600200"/>
            <a:ext cx="833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 System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important software on any compu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ontrols the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computer to run other types of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gin Nam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dentifies you to a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ssword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s a series of letters and/or numbers and symbols that you to key to gain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3"/>
          <p:cNvSpPr/>
          <p:nvPr/>
        </p:nvSpPr>
        <p:spPr>
          <a:xfrm>
            <a:off x="1027080" y="6259680"/>
            <a:ext cx="754380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2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D40EA5FE-C421-4B3A-A747-FB07F8088ED9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Login and Operating</a:t>
            </a:r>
            <a:br>
              <a:rPr sz="4000"/>
            </a:b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Systems Basic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w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secure. Never share with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ect others. Do not ask them for their pass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sneak someone else’s password, even as a pr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of a password you will re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create one that someone else can guess eas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3"/>
          <p:cNvSpPr/>
          <p:nvPr/>
        </p:nvSpPr>
        <p:spPr>
          <a:xfrm>
            <a:off x="1143000" y="624528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2873DD7D-0225-42DF-82F7-6D29AACA22FD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The Windows User Interface (UI)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18960" y="1599840"/>
            <a:ext cx="846144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r Interface (UI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llows users (like you) to give commands to the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phical User Interface (GUI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ing icons to activate any file, application, or command you 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con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ictures that represent applications, files, and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kto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the main screen for the Windows UI (an on-screen work pla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oter Placeholder 3"/>
          <p:cNvSpPr/>
          <p:nvPr/>
        </p:nvSpPr>
        <p:spPr>
          <a:xfrm>
            <a:off x="1027080" y="620244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2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10202A26-FA43-4682-A50B-4BDBB7B5D386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Windows User Interfac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pic>
        <p:nvPicPr>
          <p:cNvPr id="263" name="Content Placeholder 4" descr="ScreenShot014.png"/>
          <p:cNvPicPr/>
          <p:nvPr/>
        </p:nvPicPr>
        <p:blipFill>
          <a:blip r:embed="rId1"/>
          <a:stretch/>
        </p:blipFill>
        <p:spPr>
          <a:xfrm>
            <a:off x="1004760" y="1771560"/>
            <a:ext cx="7696440" cy="3834000"/>
          </a:xfrm>
          <a:prstGeom prst="rect">
            <a:avLst/>
          </a:prstGeom>
          <a:ln w="0">
            <a:noFill/>
          </a:ln>
        </p:spPr>
      </p:pic>
      <p:sp>
        <p:nvSpPr>
          <p:cNvPr id="264" name="Footer Placeholder 3"/>
          <p:cNvSpPr/>
          <p:nvPr/>
        </p:nvSpPr>
        <p:spPr>
          <a:xfrm>
            <a:off x="928800" y="6245280"/>
            <a:ext cx="775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2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           Slide </a:t>
            </a:r>
            <a:fld id="{5808021D-18C7-4D8E-AC5A-37E1A7E4060B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36360" y="272880"/>
            <a:ext cx="7729560" cy="11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Calibri"/>
              </a:rPr>
              <a:t>Mousing Around</a:t>
            </a:r>
            <a:endParaRPr b="0" lang="en-US" sz="4000" spc="-1" strike="noStrike">
              <a:solidFill>
                <a:srgbClr val="c23191"/>
              </a:solidFill>
              <a:latin typeface="Calibri"/>
            </a:endParaRPr>
          </a:p>
        </p:txBody>
      </p:sp>
      <p:pic>
        <p:nvPicPr>
          <p:cNvPr id="266" name="Content Placeholder 5" descr="ScreenShot015.png"/>
          <p:cNvPicPr/>
          <p:nvPr/>
        </p:nvPicPr>
        <p:blipFill>
          <a:blip r:embed="rId1"/>
          <a:stretch/>
        </p:blipFill>
        <p:spPr>
          <a:xfrm>
            <a:off x="2209680" y="1461960"/>
            <a:ext cx="5112000" cy="210024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450800" y="3657240"/>
            <a:ext cx="737424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ft-click to select somet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uble-click to open an application, a file, or an im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and drag objects around the sc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ght-click to open pop-up men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Footer Placeholder 3"/>
          <p:cNvSpPr/>
          <p:nvPr/>
        </p:nvSpPr>
        <p:spPr>
          <a:xfrm>
            <a:off x="928800" y="6245280"/>
            <a:ext cx="775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2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           Slide </a:t>
            </a:r>
            <a:fld id="{9DBCFDAE-4E7F-4A4B-8381-B597680EDA6B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Logging Ou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mory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When your computer is on, your OS, applications, and data are stored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M: Random Access Memory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omputer is turned off, the memory in RAM is erased/cleared.  All unsaved data will be l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ooter Placeholder 3"/>
          <p:cNvSpPr/>
          <p:nvPr/>
        </p:nvSpPr>
        <p:spPr>
          <a:xfrm>
            <a:off x="928800" y="6245280"/>
            <a:ext cx="775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2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           Slide </a:t>
            </a:r>
            <a:fld id="{4BD5CDE0-1BD1-4A17-97ED-C46F0E356676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Shut Down Menu Option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990360" y="1600200"/>
            <a:ext cx="601956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s your information in memory while allowing another user to log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you to log off the system without shutting down the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ks your computer to keep your information safe while you are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3" descr=""/>
          <p:cNvPicPr/>
          <p:nvPr/>
        </p:nvPicPr>
        <p:blipFill>
          <a:blip r:embed="rId1"/>
          <a:stretch/>
        </p:blipFill>
        <p:spPr>
          <a:xfrm>
            <a:off x="7209000" y="1982880"/>
            <a:ext cx="1412640" cy="2276280"/>
          </a:xfrm>
          <a:prstGeom prst="rect">
            <a:avLst/>
          </a:prstGeom>
          <a:ln w="0">
            <a:noFill/>
          </a:ln>
        </p:spPr>
      </p:pic>
      <p:cxnSp>
        <p:nvCxnSpPr>
          <p:cNvPr id="275" name="Straight Arrow Connector 16"/>
          <p:cNvCxnSpPr/>
          <p:nvPr/>
        </p:nvCxnSpPr>
        <p:spPr>
          <a:xfrm flipV="1">
            <a:off x="5457960" y="2176560"/>
            <a:ext cx="2002320" cy="682920"/>
          </a:xfrm>
          <a:prstGeom prst="straightConnector1">
            <a:avLst/>
          </a:prstGeom>
          <a:ln w="50760">
            <a:solidFill>
              <a:srgbClr val="d13c45"/>
            </a:solidFill>
            <a:miter/>
            <a:tailEnd len="med" type="triangle" w="med"/>
          </a:ln>
        </p:spPr>
      </p:cxnSp>
      <p:cxnSp>
        <p:nvCxnSpPr>
          <p:cNvPr id="276" name="Straight Arrow Connector 18"/>
          <p:cNvCxnSpPr/>
          <p:nvPr/>
        </p:nvCxnSpPr>
        <p:spPr>
          <a:xfrm flipV="1">
            <a:off x="6103800" y="2496240"/>
            <a:ext cx="1386720" cy="1212120"/>
          </a:xfrm>
          <a:prstGeom prst="straightConnector1">
            <a:avLst/>
          </a:prstGeom>
          <a:ln w="50760">
            <a:solidFill>
              <a:srgbClr val="d13c45"/>
            </a:solidFill>
            <a:miter/>
            <a:tailEnd len="med" type="triangle" w="med"/>
          </a:ln>
        </p:spPr>
      </p:cxnSp>
      <p:cxnSp>
        <p:nvCxnSpPr>
          <p:cNvPr id="277" name="Straight Arrow Connector 21"/>
          <p:cNvCxnSpPr/>
          <p:nvPr/>
        </p:nvCxnSpPr>
        <p:spPr>
          <a:xfrm flipV="1">
            <a:off x="6326640" y="2770920"/>
            <a:ext cx="1191240" cy="2063160"/>
          </a:xfrm>
          <a:prstGeom prst="straightConnector1">
            <a:avLst/>
          </a:prstGeom>
          <a:ln w="50760">
            <a:solidFill>
              <a:srgbClr val="d13c45"/>
            </a:solidFill>
            <a:miter/>
            <a:tailEnd len="med" type="triangle" w="med"/>
          </a:ln>
        </p:spPr>
      </p:cxnSp>
      <p:sp>
        <p:nvSpPr>
          <p:cNvPr id="278" name="Footer Placeholder 3"/>
          <p:cNvSpPr/>
          <p:nvPr/>
        </p:nvSpPr>
        <p:spPr>
          <a:xfrm>
            <a:off x="928800" y="6245280"/>
            <a:ext cx="775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2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           Slide </a:t>
            </a:r>
            <a:fld id="{8D75002C-A171-46BB-BB1D-88AD99545D22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Shut Down Menu Option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990360" y="1600200"/>
            <a:ext cx="601956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uts down completely and then rest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s your computer to “sleep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s information and shuts down the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ly turns off the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3" descr=""/>
          <p:cNvPicPr/>
          <p:nvPr/>
        </p:nvPicPr>
        <p:blipFill>
          <a:blip r:embed="rId1"/>
          <a:stretch/>
        </p:blipFill>
        <p:spPr>
          <a:xfrm>
            <a:off x="7209000" y="1982880"/>
            <a:ext cx="1412640" cy="2276280"/>
          </a:xfrm>
          <a:prstGeom prst="rect">
            <a:avLst/>
          </a:prstGeom>
          <a:ln w="0">
            <a:noFill/>
          </a:ln>
        </p:spPr>
      </p:pic>
      <p:cxnSp>
        <p:nvCxnSpPr>
          <p:cNvPr id="282" name="Straight Arrow Connector 16"/>
          <p:cNvCxnSpPr/>
          <p:nvPr/>
        </p:nvCxnSpPr>
        <p:spPr>
          <a:xfrm>
            <a:off x="3903840" y="2350800"/>
            <a:ext cx="3629520" cy="740520"/>
          </a:xfrm>
          <a:prstGeom prst="straightConnector1">
            <a:avLst/>
          </a:prstGeom>
          <a:ln w="50760">
            <a:solidFill>
              <a:srgbClr val="d13c45"/>
            </a:solidFill>
            <a:miter/>
            <a:tailEnd len="med" type="triangle" w="med"/>
          </a:ln>
        </p:spPr>
      </p:cxnSp>
      <p:cxnSp>
        <p:nvCxnSpPr>
          <p:cNvPr id="283" name="Straight Arrow Connector 18"/>
          <p:cNvCxnSpPr/>
          <p:nvPr/>
        </p:nvCxnSpPr>
        <p:spPr>
          <a:xfrm>
            <a:off x="6748560" y="3135240"/>
            <a:ext cx="799200" cy="334080"/>
          </a:xfrm>
          <a:prstGeom prst="straightConnector1">
            <a:avLst/>
          </a:prstGeom>
          <a:ln w="50760">
            <a:solidFill>
              <a:srgbClr val="d13c45"/>
            </a:solidFill>
            <a:miter/>
            <a:tailEnd len="med" type="triangle" w="med"/>
          </a:ln>
        </p:spPr>
      </p:cxnSp>
      <p:cxnSp>
        <p:nvCxnSpPr>
          <p:cNvPr id="284" name="Straight Arrow Connector 21"/>
          <p:cNvCxnSpPr/>
          <p:nvPr/>
        </p:nvCxnSpPr>
        <p:spPr>
          <a:xfrm flipV="1">
            <a:off x="5209920" y="3801600"/>
            <a:ext cx="2367720" cy="262800"/>
          </a:xfrm>
          <a:prstGeom prst="straightConnector1">
            <a:avLst/>
          </a:prstGeom>
          <a:ln w="50760">
            <a:solidFill>
              <a:srgbClr val="d13c45"/>
            </a:solidFill>
            <a:miter/>
            <a:tailEnd len="med" type="triangle" w="med"/>
          </a:ln>
        </p:spPr>
      </p:cxnSp>
      <p:cxnSp>
        <p:nvCxnSpPr>
          <p:cNvPr id="285" name="Straight Arrow Connector 24"/>
          <p:cNvCxnSpPr/>
          <p:nvPr/>
        </p:nvCxnSpPr>
        <p:spPr>
          <a:xfrm flipV="1">
            <a:off x="5732640" y="4136760"/>
            <a:ext cx="1829520" cy="813600"/>
          </a:xfrm>
          <a:prstGeom prst="straightConnector1">
            <a:avLst/>
          </a:prstGeom>
          <a:ln w="50760">
            <a:solidFill>
              <a:srgbClr val="d13c45"/>
            </a:solidFill>
            <a:miter/>
            <a:tailEnd len="med" type="triangle" w="med"/>
          </a:ln>
        </p:spPr>
      </p:cxnSp>
      <p:sp>
        <p:nvSpPr>
          <p:cNvPr id="286" name="Footer Placeholder 3"/>
          <p:cNvSpPr/>
          <p:nvPr/>
        </p:nvSpPr>
        <p:spPr>
          <a:xfrm>
            <a:off x="928800" y="6245280"/>
            <a:ext cx="775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2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           Slide </a:t>
            </a:r>
            <a:fld id="{7E967F75-472A-4ABB-9185-C4CBEBDBBFB6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19:37:58Z</dcterms:created>
  <dc:creator>Jean Bissell</dc:creator>
  <dc:description>Copyright 2006 South-Western/Thomson</dc:description>
  <dc:language>en-US</dc:language>
  <cp:lastModifiedBy>Lenessa Keehn</cp:lastModifiedBy>
  <dcterms:modified xsi:type="dcterms:W3CDTF">2011-03-01T15:26:21Z</dcterms:modified>
  <cp:revision>68</cp:revision>
  <dc:subject/>
  <dc:title>Slide 1</dc:title>
</cp:coreProperties>
</file>